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2BD-A918-4121-A1A2-D0FB7940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498F-32B0-48C9-8507-D4B39669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0EE-CF63-4571-BCA4-CB71AF8A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B96-4345-4438-BFB6-DE31B04E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D1A-DD74-425B-9A35-1BE235C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EF8-3337-4BA4-9504-5C6092A3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249-3544-42EF-94DC-26A8B46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8A2-CDE0-4B99-90FE-7AA9E60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49F-80E7-45C5-AAB7-64388B1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AE4-BDD6-442B-962A-121467D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3DB-939E-4EFF-A7E7-06CA9E84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489-C5B5-44A2-BB0E-373BE16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0FC-15CD-4B29-929F-B766020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C20-7A30-4964-92A0-C41FBC2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C2D-A7DB-4F84-8CEE-54AE57C1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193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2400" y="4645080"/>
            <a:ext cx="517320" cy="950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0640" y="464508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28520" y="555948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2523960"/>
            <a:ext cx="480960" cy="88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2680" y="3273480"/>
            <a:ext cx="432000" cy="82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3822840"/>
            <a:ext cx="480960" cy="877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14640" y="4492800"/>
            <a:ext cx="495360" cy="95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36880" y="5194440"/>
            <a:ext cx="474480" cy="877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62000" y="6016680"/>
            <a:ext cx="49536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mr</cp:lastModifiedBy>
  <dcterms:modified xsi:type="dcterms:W3CDTF">2012-12-05T21:30:47Z</dcterms:modified>
  <cp:revision>111</cp:revision>
  <dc:subject/>
  <dc:title>Profile</dc:title>
</cp:coreProperties>
</file>